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716-A17C-4AE8-A53C-8C5D0843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BDB-D7B4-409E-BAA1-70E0B1B8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7BB-DE18-42B5-9B05-67AE2EF0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240-5F4D-4E39-9BF2-D96ECF8A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2F9D-CE76-48B5-81B0-489DE1AB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21D1-C1C9-4021-97E2-97C7B3A1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BB82-D154-4C40-89B7-35DBAA63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2B50-6DA1-4E37-B5DF-9943D531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50F-A236-41FD-B20C-5897C2EC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530A-83E8-4E89-88F3-F54DAC7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65DC-A4BB-4755-BBE6-16BBEAB3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000-E9A5-49D1-ACEC-5AF3C56C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5F2-46E0-4CDB-B5D7-7BD2405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E5EC-F0C7-4EFB-9BDC-2DE5C9A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091C-F456-4CD7-A10B-D1E1EC3A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9007-A755-4606-A5F1-7E81B329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64CC-1E9E-4564-9663-2AEF93AC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330-05D0-4F80-8D7A-ACE1F01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60F-FCB0-46D4-83FC-5721B377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E65-71B8-4645-9D1B-975BD9C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95C-BD26-42DC-9DB6-FECB88B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2FC-3989-45CB-9550-459B82E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216-9E00-4B80-A0FF-B33FAEA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671-7F49-493E-B09F-CDDF02B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Line 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Group 7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Object 8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Object 9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DA42-1558-4FB8-A392-D4109A63CEC1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Group 15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Rectangle 16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58" name="Line 10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BC3E-5CE9-4E5D-A644-CEEE1D818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8120" y="33523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ding for Lif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457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ges 528–530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951520" y="380880"/>
            <a:ext cx="319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5400"/>
            </a:b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0" name="Picture 5" descr="boss_head_nodding_no_sm_nwm"/>
          <p:cNvPicPr/>
          <p:nvPr/>
        </p:nvPicPr>
        <p:blipFill>
          <a:blip r:embed="rId1"/>
          <a:stretch/>
        </p:blipFill>
        <p:spPr>
          <a:xfrm>
            <a:off x="30492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loppy_disk_walking_sm_nwm"/>
          <p:cNvPicPr/>
          <p:nvPr/>
        </p:nvPicPr>
        <p:blipFill>
          <a:blip r:embed="rId2"/>
          <a:stretch/>
        </p:blipFill>
        <p:spPr>
          <a:xfrm>
            <a:off x="3581280" y="5181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ading Standard 2.1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Compare and contrast the features and elements of consumer materials to gain meaning from documents (e.g., warranties, contracts, product information, instruction manuals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520" y="1218960"/>
            <a:ext cx="40384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ading Standard 2.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Use information from 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variety of consumer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workplace, and public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documents to explain 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ituation or decision and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o solve a problem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57400" y="426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ading Standard 2.5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Understand and explain the use of a complex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mechanical device b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following technic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directions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616480" y="228600"/>
            <a:ext cx="60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California Reading Standard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25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35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850"/>
                            </p:stCondLst>
                            <p:childTnLst>
                              <p:par>
                                <p:cTn id="8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place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rve 2 basic function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: E-mail, memorandums (memos), and repor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ell about upcomming meanings, changes in policy, and other info. needed to do your job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nstruction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Employee manuals and user guides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what is expected from you at work or teach how to operate something 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onsist of info. concerning public agencies and non-profit group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Inform people of situations, decisions, responsibilities, schedules, occasions, and events that might interest them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voting issues, health concerns, community decision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umer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onsumer-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someone who buys something or uses what someone else buys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onsumer document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give you the information you need to select, purchase, and use your product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roduct information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: tells what the product will d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ontract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spells out exactly what services will and will not be provided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warranty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that spells out exactly what happens if the computer doesn’t work properly and what you are required to do to receive servic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nstruction manual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tells how to set up and use the computer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echnical directions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that give precise technical information about installation and use of product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 the Fine Print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Product Information: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on the box or label is the first place to check to see that the item is really what you want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Does it have all of the features you are looking for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Contracts: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define what you are getting, what the cost is, and how long the agreement last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Warrantie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guarantee that the product will work for a specified period of time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nstruction Manual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Informs the consumer on how to install and operate the item properly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echnical direction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often included when an item is complicated or mechanical in nature.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Lay out steps to assemble or operate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 the Fine Print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information abstracted from: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Holt, Rinehart, and Winston. “Reading for Life,” </a:t>
            </a:r>
            <a:r>
              <a:rPr b="0" lang="en-US" sz="2800" spc="-1" strike="noStrike" u="sng">
                <a:solidFill>
                  <a:srgbClr val="1d528d"/>
                </a:solidFill>
                <a:uFillTx/>
                <a:latin typeface="Arial"/>
              </a:rPr>
              <a:t>Holt Literature and Language Arts: Second Course.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 Austin, Texas. 2003. 528-529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35:23Z</dcterms:created>
  <dc:creator>Chipman Jr. High</dc:creator>
  <dc:description/>
  <dc:language>en-US</dc:language>
  <cp:lastModifiedBy>Carlos</cp:lastModifiedBy>
  <dcterms:modified xsi:type="dcterms:W3CDTF">2012-09-06T17:20:19Z</dcterms:modified>
  <cp:revision>3</cp:revision>
  <dc:subject/>
  <dc:title>Reading for Life</dc:title>
</cp:coreProperties>
</file>