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349-7DB0-4548-B625-AA7E9BB4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714-8DE4-488E-9F5B-939FC738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808-D9B0-4BA2-A286-4FCB5BCE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0FA-D64B-4019-95EC-0952E3A1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A0C1-0FCD-400B-9BDF-3E0C2FD4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220F-880A-4E8B-8462-C284FE5D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ACAF-572C-4551-9908-BAE28545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2501-8FD1-43DC-BF5B-3E59D073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5D10-AA4B-46A0-B761-B5090A8B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AE3C-5E25-4776-AC34-6AE6B6D9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B6FD-58CA-4A64-9A56-8D2C3124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581-3CD1-4837-BDD4-AD510457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E094-16B5-45B7-B26F-5AD5D62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1467-CCDD-45D4-9075-723E4AFA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2E8E-C3B4-4D7A-980E-F531C14A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743B-C1A5-420A-A603-94862504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DB13-237C-467F-A5ED-F9B20141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858-32AE-4301-B237-27C9CB5B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F00-3593-4278-A122-9D8C0439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326-86D0-4957-81B0-4806D329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EE4-7B8B-4D0E-A758-23E9B634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35F-8665-4412-AA6C-DF827E3C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DDB-15CC-4D16-9F35-2C50B20B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780-C8B7-4BFA-9FC4-F7396595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Line 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Group 7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Object 8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Object 9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8AFA-38EF-40AA-8266-F5CC60F2F2B0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Group 15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Rectangle 16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Rectangle 17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58" name="Line 10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" name="Picture 18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0239-46E2-4091-8FEC-0F59E7C91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8120" y="335232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ding for Lif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95480" y="4038480"/>
            <a:ext cx="6019920" cy="457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ges 528–530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951520" y="380880"/>
            <a:ext cx="319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5400"/>
            </a:br>
            <a:endParaRPr b="0" lang="en-US" sz="5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0" name="Picture 5" descr="boss_head_nodding_no_sm_nwm"/>
          <p:cNvPicPr/>
          <p:nvPr/>
        </p:nvPicPr>
        <p:blipFill>
          <a:blip r:embed="rId1"/>
          <a:stretch/>
        </p:blipFill>
        <p:spPr>
          <a:xfrm>
            <a:off x="304920" y="2971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floppy_disk_walking_sm_nwm"/>
          <p:cNvPicPr/>
          <p:nvPr/>
        </p:nvPicPr>
        <p:blipFill>
          <a:blip r:embed="rId2"/>
          <a:stretch/>
        </p:blipFill>
        <p:spPr>
          <a:xfrm>
            <a:off x="3581280" y="5181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Reading Standard 2.1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Compare and contrast the features and elements of consumer materials to gain meaning from documents (e.g., warranties, contracts, product information, instruction manuals)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05520" y="1218960"/>
            <a:ext cx="40384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Reading Standard 2.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Use information from 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variety of consumer,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workplace, and public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documents to explain 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ituation or decision and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o solve a problem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057400" y="426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Reading Standard 2.5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Understand and explain the use of a complex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mechanical device b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following technic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directions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616480" y="228600"/>
            <a:ext cx="60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California Reading Standard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465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25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335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85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orkplace Doc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rve 2 basic function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ommunication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: E-mail, memorandums (memos), and repor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ell about upcomming meanings, changes in policy, and other info. needed to do your job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nstruction: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Employee manuals and user guides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what is expected from you at work or teach how to operate something 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ublic Doc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onsist of info. concerning public agencies and non-profit groups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Inform people of situations, decisions, responsibilities, schedules, occasions, and events that might interest them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voting issues, health concerns, community decision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umer Doc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onsumer-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someone who buys something or uses what someone else buys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onsumer documents: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give you the information you need to select, purchase, and use your product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product information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: tells what the product will d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ontract: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spells out exactly what services will and will not be provided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warranty: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that spells out exactly what happens if the computer doesn’t work properly and what you are required to do to receive servic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instruction manual: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tells how to set up and use the computer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echnical directions: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that give precise technical information about installation and use of product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 the Fine Print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Product Information:</a:t>
            </a: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 on the box or label is the first place to check to see that the item is really what you want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Does it have all of the features you are looking for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Contracts:</a:t>
            </a: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 define what you are getting, what the cost is, and how long the agreement lasts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3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Warranties: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guarantee that the product will work for a specified period of time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nstruction Manuals: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Informs the consumer on how to install and operate the item properly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echnical directions: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often included when an item is complicated or mechanical in nature.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Lay out steps to assemble or operate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 the Fine Print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s Ci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information abstracted from: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Holt, Rinehart, and Winston. “Reading for Life,” </a:t>
            </a:r>
            <a:r>
              <a:rPr b="0" lang="en-US" sz="2800" spc="-1" strike="noStrike" u="sng">
                <a:solidFill>
                  <a:srgbClr val="1d528d"/>
                </a:solidFill>
                <a:uFillTx/>
                <a:latin typeface="Arial"/>
              </a:rPr>
              <a:t>Holt Literature and Language Arts: Second Course.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 Austin, Texas. 2003. 528-529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7:35:23Z</dcterms:created>
  <dc:creator>Chipman Jr. High</dc:creator>
  <dc:description/>
  <dc:language>en-US</dc:language>
  <cp:lastModifiedBy>Carlos</cp:lastModifiedBy>
  <dcterms:modified xsi:type="dcterms:W3CDTF">2012-09-06T17:20:19Z</dcterms:modified>
  <cp:revision>3</cp:revision>
  <dc:subject/>
  <dc:title>Reading for Life</dc:title>
</cp:coreProperties>
</file>